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D17-CEAF-40CC-8D18-A16469A2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462-EC1C-4286-AFF2-64F4B0C0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E41-3A85-493F-A06D-A3D19553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8CE-E9B2-44E7-8E88-B107F99A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ADE1-1E8F-4938-91F0-7E6DFC8B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546F-DEDF-4D24-A190-BCD84B6E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671D-645F-4067-9984-E44FEAC9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51C5-EC32-4B5E-8E6A-1E68E761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CFED-B8BF-4BFD-B05B-CBB9A3FD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EE1C-33B6-428C-A6BD-B1624630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C77-2E2D-4DD5-9893-947D37A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E8B-6FBE-49B8-9875-4EDC1BF5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3CF-4E5B-4C68-B515-8733976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8C5E-25F8-48D3-A8B3-5778E54F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B50C-A16A-49F7-967A-C01FD50C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4575-8C51-443A-8651-F7462095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7F68-70E1-437F-8482-77A0E497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401-BE75-4B11-BD5F-55347D0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840-F991-47DD-918C-4680A282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BC1-F9CF-4A55-B5BC-91B800C7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B6B-DEFA-46C5-A118-617E55D7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397-6362-486C-8FA7-CBA53EEF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F81-78C2-4B71-BA79-2D57E29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4BA-7D41-4658-B7C7-8DF0622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4ADF-05CC-4F16-B41F-6258A32BE2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6DB2-3B83-49F9-B1F0-EED7052B9A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e rol au rezistoarele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zistoare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unt dispozitive folosite în instalaţiile electrice pentru a micşora intensitatea curentului prin rezistenţa electric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ărimea caracteristică 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zistenţa electric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 = U / 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Clasifica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) după material pot fi: - metal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cu lich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chim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) după construcţie pot fi: - fixe ( rezistenţa nu poate fi modificată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variab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6482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egarea rezistoarelor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n seri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 de calcul a 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 echivale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97160" y="2928960"/>
            <a:ext cx="45482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egarea rezistoarelor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n parale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 de calcul a 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 echival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03640" y="2637000"/>
            <a:ext cx="453528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g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ea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lui Ohm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ensiunea electrică aplicată la capetele unui conductor este direct proporţională cu intensitatea curentului electric care trece prin acel condu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 = 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Legea lui Joul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a trecerea unui curent de intensitate I printr-un conductor de rezistenţă R într-un interval de tim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e produce o cantitate de căldură Q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= R×I×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172200" y="205740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Sarcini de lucru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rupa 1: Prezentare Power Point a conexiunii serie a rezistoarelor şi experiment pentru verificarea acestei conexiu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rupa 2: Prezentare Power Point a conexiunii paralel a rezistoarelor şi experiment pentru verificarea acestei conexiu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rupa 3: Prezentare Power Point a legii lui Ohm şi experiment pentru verificarea acestei leg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rupa 4: Prezentare Power Point a legii lui Joule şi experiment pentru verificarea acestei leg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Cerinţe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ezentarea Power Point a grupe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să nu conţină mai mult de 15 diapoz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scrierea se face cu Arial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10:49Z</dcterms:created>
  <dc:creator>ws21</dc:creator>
  <dc:description/>
  <dc:language>en-US</dc:language>
  <cp:lastModifiedBy>Electro</cp:lastModifiedBy>
  <dcterms:modified xsi:type="dcterms:W3CDTF">2009-12-13T15:25:31Z</dcterms:modified>
  <cp:revision>5</cp:revision>
  <dc:subject/>
  <dc:title>Ce rol au rezistoarele?</dc:title>
</cp:coreProperties>
</file>